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63E67-42E4-4F48-8E5B-FAD6E5259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6D897-3B7A-4540-8B43-947C6619F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D48B2-0A7A-40E7-BBE1-CF947D23D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5E5A8-08C9-45FE-87A2-54FF03261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FB71B-6CA8-48DD-ABB7-40944906D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EE214-E07E-4982-AB08-E8CE31967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CCECF-7015-4358-8A01-7C5CB9A3B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75421-E5F4-42AF-8FEA-37D623AA1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2ABAF-CE6C-4F5E-86FE-35C10D0DC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9FFDA-FAA4-4F51-AD72-BA575A2E4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3ECE2-DCF9-4B59-A38A-FC2381D08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27016-D7F3-4C1D-BE9E-CCCCEC65B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D939F-334D-4471-8AAF-407196C3F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7B097-FD95-4655-AE5E-26E73BA48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2CF4B-74AA-4B18-B8AC-A7D6E266A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F97D6-94AF-485F-9F55-1FDA4095C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23110-FD5B-480E-B7EE-8AD3C5EF1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DECC2-610D-46FB-B7B5-ADF4AAECA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05AC0-205E-4E54-AB25-F37789156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64DF6-2EE4-4F63-9639-E4312C525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D69E1-F2B8-4E2A-BE73-63ADEF87D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C5087-C3BF-402C-B5FA-4C941742A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7609A-12AD-4DA2-BBE3-018438F2B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E77AB-D15B-4969-836B-61C8847DA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FE7BD-D39D-4777-B566-E53FBC49DC5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BF457-72CD-40D9-AE71-68CA1A50D13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Network Securit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cip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 plain text in fixed block sizes producing block of cipher text of equal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ryption standard (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ple DES (T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Encryption 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4 bit plain text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6 bi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8271"/>
          <a:stretch/>
        </p:blipFill>
        <p:spPr>
          <a:xfrm>
            <a:off x="333864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Sing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669"/>
          <a:stretch/>
        </p:blipFill>
        <p:spPr>
          <a:xfrm>
            <a:off x="990720" y="1371600"/>
            <a:ext cx="7391160" cy="54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ength of 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lared insecure in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nic Frontier Found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Cracker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now worth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s include T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iple DE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SI X9.17 (198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rporated in DEA standard 199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3 keys and 3 executions of DEA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key length 168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Encryption De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883"/>
          <a:stretch/>
        </p:blipFill>
        <p:spPr>
          <a:xfrm>
            <a:off x="609480" y="1447920"/>
            <a:ext cx="7772400" cy="51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k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unication link equipped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ffic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level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lots of encryption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ust be decrypted at each switch to read address (virtual circuit numb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vulnerable a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icularly on public switch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d to End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done at end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encrypted form crosses network unalt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shares key with source to decry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can only encryp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wise switching nodes could not read header or route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ttern not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oth link and end to 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selected by A and delivered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party selects key and delivers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encrypt and transmit new key from A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transmit new key from third party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4957"/>
          <a:stretch/>
        </p:blipFill>
        <p:spPr>
          <a:xfrm>
            <a:off x="533520" y="1600200"/>
            <a:ext cx="80010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uration of one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royed at end of s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istribution of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distribution ce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rmines which systems may communic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one session key for that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nt end process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s end to end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tains keys fo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Pad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e cipher text continuous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lain text to encode, send random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 traffic analysis im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against active atta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lsification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vesdrop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authentic if it is genuine and comes from the alleged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allows receiver to verify that message is authen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is from authentic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ime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Us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s sender and receiver are only entities that know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nclud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tam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Without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tag generated and appended to eac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not encryp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fo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s broadcas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ve one destination responsible for authent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ide heavily loa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cryption adds to worklo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authenticate random messa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s authenticated without encryption can be executed without de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te authentication code based on shared key and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key shared between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nly sender and receiver know key and code match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is from alleged sen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ssage has sequence number, receiver assured of proper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Using 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21727"/>
          <a:stretch/>
        </p:blipFill>
        <p:spPr>
          <a:xfrm>
            <a:off x="533520" y="1681200"/>
            <a:ext cx="8001000" cy="47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Way Hash Fun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variable size message and produces fixed size tag (message dig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 of authentication without en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optimized to larg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covered by pat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subject to export controls (from US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1371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9141"/>
          <a:stretch/>
        </p:blipFill>
        <p:spPr>
          <a:xfrm>
            <a:off x="2746440" y="0"/>
            <a:ext cx="6397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ss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vesdropping on transmis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obtain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ease of message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sider learns content of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 monitoring frequency and length of messages, even encrypted, nature of communication may be gues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icult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prev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e Hash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sh function must have following proper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applied to any size data b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 fixed length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comp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rever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find two message that give the same ha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HA-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Hash Algorithm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put message less than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4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ed in 512 bit blo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160 bit dig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mathematical algorith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separate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gred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c and private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685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4459"/>
          <a:stretch/>
        </p:blipFill>
        <p:spPr>
          <a:xfrm>
            <a:off x="4095720" y="19080"/>
            <a:ext cx="5048280" cy="65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key made 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kept 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e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easible to determine decryption key given encryption key and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key can be used for encryption, the other for de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e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generates pair of ke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ces one key in public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send a message to user, encrypt using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ecrypts using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encrypts message with their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decrypt using sneders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authenticates sender, who is only person who has the matching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give privac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 key is publ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0698"/>
          <a:stretch/>
        </p:blipFill>
        <p:spPr>
          <a:xfrm>
            <a:off x="4334040" y="0"/>
            <a:ext cx="480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31399"/>
          <a:stretch/>
        </p:blipFill>
        <p:spPr>
          <a:xfrm>
            <a:off x="533520" y="2200320"/>
            <a:ext cx="815328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4 and IPv6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branch office connectivity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remote access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net and intranet connectiv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electronic commerce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t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que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tending to be a different 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ication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nial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may lead to deterr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prev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Sec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401,2402,2406,240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Assoc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way relationship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o way, two associations are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SA identification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arameter ind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rotocol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cou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counter over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ti-reply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H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fetime of this assoc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 protoco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, transport or wild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and Tunnel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upper layer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s to payload of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between h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ne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re packet treated as payload for outer IP “packe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outers examine inner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have different source and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mplemented at firew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24862"/>
          <a:stretch/>
        </p:blipFill>
        <p:spPr>
          <a:xfrm>
            <a:off x="457200" y="1762200"/>
            <a:ext cx="8077320" cy="32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ng Security Payloa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P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2787"/>
          <a:stretch/>
        </p:blipFill>
        <p:spPr>
          <a:xfrm>
            <a:off x="1371600" y="1371600"/>
            <a:ext cx="64864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ope of ES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1479"/>
          <a:stretch/>
        </p:blipFill>
        <p:spPr>
          <a:xfrm>
            <a:off x="990720" y="1371600"/>
            <a:ext cx="62481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AKMP/Oakl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akley key determination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net security association and key management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Thre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8496"/>
          <a:stretch/>
        </p:blipFill>
        <p:spPr>
          <a:xfrm>
            <a:off x="457200" y="2104920"/>
            <a:ext cx="822960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ntional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28281"/>
          <a:stretch/>
        </p:blipFill>
        <p:spPr>
          <a:xfrm>
            <a:off x="533520" y="2057400"/>
            <a:ext cx="807696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gredi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re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ong 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known, should not be able to decrypt or work out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a number of cipher texts are available together with plain texts of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and receiver must obtain secret key secur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key is known, all communication using this key is read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ack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ypt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y on nature of algorithm plus some knowledge of general characteristics of 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mpt to deduce plain text or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ute fo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y every possible key until plain text is achie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8T17:39:45Z</dcterms:created>
  <dc:creator>Adrian &amp; Wendy</dc:creator>
  <dc:description/>
  <dc:language>en-US</dc:language>
  <cp:lastModifiedBy>Adrian J Pullin</cp:lastModifiedBy>
  <dcterms:modified xsi:type="dcterms:W3CDTF">1999-11-10T15:42:13Z</dcterms:modified>
  <cp:revision>42</cp:revision>
  <dc:subject/>
  <dc:title>William Stallings Data and Computer Communications</dc:title>
</cp:coreProperties>
</file>